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jpeg" ContentType="image/jpeg"/>
  <Override PartName="/ppt/media/image6.jpeg" ContentType="image/jpeg"/>
  <Override PartName="/ppt/media/image7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D06E8-114B-48D3-AE54-66101DE1D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3F202-53C4-49FC-808F-220B0B00E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562EE-6A19-41C5-93AC-5EE700C00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0C21B-82CF-4218-AA73-B936BD8CF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DB67D-F1AD-4B65-89B7-333A39C00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44127-C9C2-46A3-9881-43B5C6B8B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74F7C-D80D-45A4-8E01-533B12DEB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9DDB3-FA31-497B-8EE3-CECEAFD4C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8030D-F1D8-4A83-AD3B-24EDBF3FA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E670C-6028-48AD-92A7-E4F0990DA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DA6F7-D1C4-406F-A501-CABBA4AC8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54703-8BDD-4216-AE1E-A43EB29CC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26D14-CFB3-43C9-A4DE-3572D20FB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D3620-CAF7-4A00-B6EE-1C1FE7402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86ECB-EAE0-451E-A9C5-6DAA91D35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4F724-2C27-4B37-B005-05009A5EB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20A00-AE44-42C6-AEDB-DEA8595E6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214CFE-41AD-4126-84D8-F8B2CB8E4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0EE310-3FCB-4181-9CA9-FE6B683AF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E143F6-C601-4E1F-B6EA-645B53B2A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45953D-4E77-4FC5-84B2-A17404B7F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7BE1D4-4AC5-4F3B-8F94-9CD926E8F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C0C62-EDF8-42E2-8AFA-535EC797A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5144BF-5B64-4B16-8CF8-A3D3F35DA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F62120-5D8C-469C-82C4-96A1D7612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F1E52B-C5F1-4F92-9698-72D83A532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353FEA-F2A7-4660-9ADA-E270621BC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D7DA59-6994-4FE2-9982-B3F37DFC7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F11391-0A4C-4896-B8CE-A626134C4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B0A680-9DC7-482E-879F-4D2F8F4A5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F7350-165C-437C-A4A2-C3D019234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E0B98-8363-4BDA-9D59-4CFDC64DC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8158E-2114-4072-9F73-AEEDDC08F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F6DDD-D481-440A-ABD1-2B7949F6C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6D3F8-6264-43BB-9D5E-C7D232E67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F0108-13E0-410E-995C-DF9F6B82B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AEFFC-9B87-45C7-B785-EEBCE7E5319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42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E8EE2-BFBE-4EE3-85D6-63BA519070A0}" type="slidenum">
              <a:rPr b="0" lang="en-GB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9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05D87-BB2B-489B-8F13-07462DF128B0}" type="slidenum">
              <a:rPr b="0" lang="en-GB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324000" y="260280"/>
            <a:ext cx="8606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99ff"/>
                </a:solidFill>
                <a:latin typeface="Arial"/>
              </a:rPr>
              <a:t>Ch 12 – Our place in the Univer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13800" y="1311120"/>
            <a:ext cx="5176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99ff"/>
                </a:solidFill>
                <a:latin typeface="Arial"/>
              </a:rPr>
              <a:t>12.2 Special Relativ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11280" y="2060640"/>
            <a:ext cx="38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ime Dil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360" y="0"/>
            <a:ext cx="196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03120" y="907920"/>
            <a:ext cx="8445600" cy="23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A proton has a </a:t>
            </a:r>
            <a:r>
              <a:rPr b="0" lang="en-GB" sz="36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 = 10</a:t>
            </a:r>
            <a:r>
              <a:rPr b="0" lang="en-GB" sz="3600" spc="-1" strike="noStrike" baseline="30000">
                <a:solidFill>
                  <a:srgbClr val="000000"/>
                </a:solidFill>
                <a:latin typeface="Arial"/>
              </a:rPr>
              <a:t>11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(v </a:t>
            </a:r>
            <a:r>
              <a:rPr b="0" lang="en-GB" sz="36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 c). How long does the proton think it takes to travel across the galaxy which is 10</a:t>
            </a:r>
            <a:r>
              <a:rPr b="0" lang="en-GB" sz="36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 ly wid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1509840" y="3290760"/>
            <a:ext cx="1707840" cy="1332720"/>
            <a:chOff x="1509840" y="3290760"/>
            <a:chExt cx="1707840" cy="1332720"/>
          </a:xfrm>
        </p:grpSpPr>
        <p:sp>
          <p:nvSpPr>
            <p:cNvPr id="263" name=""/>
            <p:cNvSpPr/>
            <p:nvPr/>
          </p:nvSpPr>
          <p:spPr>
            <a:xfrm>
              <a:off x="2716200" y="3290760"/>
              <a:ext cx="3362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0000"/>
                  </a:solidFill>
                  <a:latin typeface="Arial"/>
                </a:rPr>
                <a:t>t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673720" y="3859200"/>
              <a:ext cx="4960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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643120" y="3992400"/>
              <a:ext cx="574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509840" y="3431880"/>
              <a:ext cx="4262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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068200" y="3579480"/>
              <a:ext cx="447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0000"/>
                  </a:solidFill>
                  <a:latin typeface="Arial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3559320" y="3376440"/>
            <a:ext cx="2324160" cy="1277640"/>
            <a:chOff x="3559320" y="3376440"/>
            <a:chExt cx="2324160" cy="1277640"/>
          </a:xfrm>
        </p:grpSpPr>
        <p:sp>
          <p:nvSpPr>
            <p:cNvPr id="269" name=""/>
            <p:cNvSpPr/>
            <p:nvPr/>
          </p:nvSpPr>
          <p:spPr>
            <a:xfrm>
              <a:off x="3559320" y="3592440"/>
              <a:ext cx="447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ff"/>
                  </a:solidFill>
                  <a:latin typeface="Arial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158720" y="3376440"/>
              <a:ext cx="1721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ff"/>
                  </a:solidFill>
                  <a:latin typeface="Arial"/>
                </a:rPr>
                <a:t>3 x 10</a:t>
              </a:r>
              <a:r>
                <a:rPr b="0" lang="en-US" sz="3600" spc="-1" strike="noStrike" baseline="30000">
                  <a:solidFill>
                    <a:srgbClr val="0000ff"/>
                  </a:solidFill>
                  <a:latin typeface="Arial"/>
                </a:rPr>
                <a:t>1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538160" y="4011480"/>
              <a:ext cx="985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ff"/>
                  </a:solidFill>
                  <a:latin typeface="Arial"/>
                </a:rPr>
                <a:t>10</a:t>
              </a:r>
              <a:r>
                <a:rPr b="0" lang="en-US" sz="3600" spc="-1" strike="noStrike" baseline="30000">
                  <a:solidFill>
                    <a:srgbClr val="0000ff"/>
                  </a:solidFill>
                  <a:latin typeface="Arial"/>
                </a:rPr>
                <a:t>1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226040" y="4011480"/>
              <a:ext cx="1657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6027840" y="3578400"/>
            <a:ext cx="1422720" cy="642600"/>
            <a:chOff x="6027840" y="3578400"/>
            <a:chExt cx="1422720" cy="642600"/>
          </a:xfrm>
        </p:grpSpPr>
        <p:sp>
          <p:nvSpPr>
            <p:cNvPr id="274" name=""/>
            <p:cNvSpPr/>
            <p:nvPr/>
          </p:nvSpPr>
          <p:spPr>
            <a:xfrm>
              <a:off x="6027840" y="3578400"/>
              <a:ext cx="447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ff"/>
                  </a:solidFill>
                  <a:latin typeface="Arial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532200" y="3578400"/>
              <a:ext cx="918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ff"/>
                  </a:solidFill>
                  <a:latin typeface="Arial"/>
                </a:rPr>
                <a:t>30s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"/>
          <p:cNvSpPr/>
          <p:nvPr/>
        </p:nvSpPr>
        <p:spPr>
          <a:xfrm>
            <a:off x="48960" y="5877000"/>
            <a:ext cx="909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cc0099"/>
                </a:solidFill>
                <a:latin typeface="Arial"/>
              </a:rPr>
              <a:t>Note: 10</a:t>
            </a:r>
            <a:r>
              <a:rPr b="0" lang="en-GB" sz="3600" spc="-1" strike="noStrike" baseline="30000">
                <a:solidFill>
                  <a:srgbClr val="cc0099"/>
                </a:solidFill>
                <a:latin typeface="Arial"/>
              </a:rPr>
              <a:t>5</a:t>
            </a:r>
            <a:r>
              <a:rPr b="0" lang="en-GB" sz="3600" spc="-1" strike="noStrike">
                <a:solidFill>
                  <a:srgbClr val="cc0099"/>
                </a:solidFill>
                <a:latin typeface="Arial"/>
              </a:rPr>
              <a:t> ly = 3 x 10</a:t>
            </a:r>
            <a:r>
              <a:rPr b="0" lang="en-GB" sz="3600" spc="-1" strike="noStrike" baseline="30000">
                <a:solidFill>
                  <a:srgbClr val="cc0099"/>
                </a:solidFill>
                <a:latin typeface="Arial"/>
              </a:rPr>
              <a:t>12</a:t>
            </a:r>
            <a:r>
              <a:rPr b="0" lang="en-GB" sz="3600" spc="-1" strike="noStrike">
                <a:solidFill>
                  <a:srgbClr val="cc0099"/>
                </a:solidFill>
                <a:latin typeface="Arial"/>
              </a:rPr>
              <a:t> s when travelling at c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-720" y="123840"/>
            <a:ext cx="5164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80"/>
                </a:solidFill>
                <a:latin typeface="Arial"/>
              </a:rPr>
              <a:t>Interesting conseque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983200" y="2714760"/>
            <a:ext cx="1032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= </a:t>
            </a:r>
            <a:r>
              <a:rPr b="0" lang="en-US" sz="4800" spc="-1" strike="noStrike">
                <a:solidFill>
                  <a:srgbClr val="ff0000"/>
                </a:solidFill>
                <a:latin typeface="Symbol"/>
                <a:ea typeface="Symbol"/>
              </a:rPr>
              <a:t>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2276280" y="2427120"/>
            <a:ext cx="3087720" cy="2082600"/>
            <a:chOff x="2276280" y="2427120"/>
            <a:chExt cx="3087720" cy="2082600"/>
          </a:xfrm>
        </p:grpSpPr>
        <p:sp>
          <p:nvSpPr>
            <p:cNvPr id="280" name=""/>
            <p:cNvSpPr/>
            <p:nvPr/>
          </p:nvSpPr>
          <p:spPr>
            <a:xfrm>
              <a:off x="4546440" y="3867120"/>
              <a:ext cx="557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0000"/>
                  </a:solidFill>
                  <a:latin typeface="Arial"/>
                </a:rPr>
                <a:t>c</a:t>
              </a:r>
              <a:r>
                <a:rPr b="0" lang="en-US" sz="3600" spc="-1" strike="noStrike" baseline="30000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572000" y="3940200"/>
              <a:ext cx="503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635280" y="3435480"/>
              <a:ext cx="1584360" cy="1008000"/>
            </a:xfrm>
            <a:prstGeom prst="bracketPair">
              <a:avLst>
                <a:gd name="adj" fmla="val 17129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637080" y="3362400"/>
              <a:ext cx="1069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0000"/>
                  </a:solidFill>
                  <a:latin typeface="Arial"/>
                </a:rPr>
                <a:t>1 – 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215240" y="2427120"/>
              <a:ext cx="462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564000" y="3129120"/>
              <a:ext cx="1800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3348000" y="3284640"/>
              <a:ext cx="2016000" cy="1152360"/>
            </a:xfrm>
            <a:custGeom>
              <a:avLst/>
              <a:gdLst/>
              <a:ahLst/>
              <a:rect l="l" t="t" r="r" b="b"/>
              <a:pathLst>
                <a:path w="1316" h="726">
                  <a:moveTo>
                    <a:pt x="0" y="590"/>
                  </a:moveTo>
                  <a:lnTo>
                    <a:pt x="46" y="726"/>
                  </a:lnTo>
                  <a:lnTo>
                    <a:pt x="136" y="0"/>
                  </a:lnTo>
                  <a:lnTo>
                    <a:pt x="1316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76280" y="2714760"/>
              <a:ext cx="9183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</a:t>
              </a:r>
              <a:r>
                <a:rPr b="0" lang="en-US" sz="36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0" lang="en-US" sz="3600" spc="-1" strike="noStrike">
                  <a:solidFill>
                    <a:srgbClr val="ff0000"/>
                  </a:solidFill>
                  <a:latin typeface="Arial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546440" y="3290760"/>
              <a:ext cx="557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0000"/>
                  </a:solidFill>
                  <a:latin typeface="Arial"/>
                </a:rPr>
                <a:t>c</a:t>
              </a:r>
              <a:r>
                <a:rPr b="0" lang="en-US" sz="3600" spc="-1" strike="noStrike" baseline="30000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9" name=""/>
          <p:cNvGrpSpPr/>
          <p:nvPr/>
        </p:nvGrpSpPr>
        <p:grpSpPr>
          <a:xfrm>
            <a:off x="686160" y="4653000"/>
            <a:ext cx="1707840" cy="1332720"/>
            <a:chOff x="686160" y="4653000"/>
            <a:chExt cx="1707840" cy="1332720"/>
          </a:xfrm>
        </p:grpSpPr>
        <p:sp>
          <p:nvSpPr>
            <p:cNvPr id="290" name=""/>
            <p:cNvSpPr/>
            <p:nvPr/>
          </p:nvSpPr>
          <p:spPr>
            <a:xfrm>
              <a:off x="1892520" y="4653000"/>
              <a:ext cx="3362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0000"/>
                  </a:solidFill>
                  <a:latin typeface="Arial"/>
                </a:rPr>
                <a:t>t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850040" y="5221440"/>
              <a:ext cx="4960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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819440" y="5354640"/>
              <a:ext cx="574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86160" y="4794120"/>
              <a:ext cx="4262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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244520" y="4941720"/>
              <a:ext cx="447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0000"/>
                  </a:solidFill>
                  <a:latin typeface="Arial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4000" y="836640"/>
            <a:ext cx="8675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bserve a photon emitted then absorbed after time, t, in our FoR. How much time does the photon think passes? v = c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2628720" y="4653000"/>
            <a:ext cx="1219320" cy="1334160"/>
            <a:chOff x="2628720" y="4653000"/>
            <a:chExt cx="1219320" cy="1334160"/>
          </a:xfrm>
        </p:grpSpPr>
        <p:sp>
          <p:nvSpPr>
            <p:cNvPr id="297" name=""/>
            <p:cNvSpPr/>
            <p:nvPr/>
          </p:nvSpPr>
          <p:spPr>
            <a:xfrm>
              <a:off x="2628720" y="4941720"/>
              <a:ext cx="447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0000"/>
                  </a:solidFill>
                  <a:latin typeface="Arial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3328920" y="4653000"/>
              <a:ext cx="3362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0000"/>
                  </a:solidFill>
                  <a:latin typeface="Arial"/>
                </a:rPr>
                <a:t>t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246840" y="5222880"/>
              <a:ext cx="6012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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276720" y="5354640"/>
              <a:ext cx="503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4194360" y="4941720"/>
            <a:ext cx="118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= 0 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5365080" y="4954680"/>
            <a:ext cx="361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i.e. time stands sti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-2160" y="5950080"/>
            <a:ext cx="9166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Explains limit of c – otherwise goes back in time(!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4" name=""/>
          <p:cNvGrpSpPr/>
          <p:nvPr/>
        </p:nvGrpSpPr>
        <p:grpSpPr>
          <a:xfrm>
            <a:off x="849960" y="1170000"/>
            <a:ext cx="3520800" cy="1783080"/>
            <a:chOff x="849960" y="1170000"/>
            <a:chExt cx="3520800" cy="1783080"/>
          </a:xfrm>
        </p:grpSpPr>
        <p:sp>
          <p:nvSpPr>
            <p:cNvPr id="305" name=""/>
            <p:cNvSpPr/>
            <p:nvPr/>
          </p:nvSpPr>
          <p:spPr>
            <a:xfrm>
              <a:off x="1835280" y="2203560"/>
              <a:ext cx="2520720" cy="647640"/>
            </a:xfrm>
            <a:custGeom>
              <a:avLst/>
              <a:gdLst/>
              <a:ahLst/>
              <a:rect l="l" t="t" r="r" b="b"/>
              <a:pathLst>
                <a:path w="1134" h="771">
                  <a:moveTo>
                    <a:pt x="0" y="635"/>
                  </a:moveTo>
                  <a:lnTo>
                    <a:pt x="45" y="771"/>
                  </a:lnTo>
                  <a:lnTo>
                    <a:pt x="90" y="0"/>
                  </a:lnTo>
                  <a:lnTo>
                    <a:pt x="1134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086560" y="2249640"/>
              <a:ext cx="22842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Arial"/>
                </a:rPr>
                <a:t>1 – v</a:t>
              </a:r>
              <a:r>
                <a:rPr b="1" lang="en-US" sz="4000" spc="-1" strike="noStrike" baseline="30000">
                  <a:solidFill>
                    <a:srgbClr val="ff0000"/>
                  </a:solidFill>
                  <a:latin typeface="Arial"/>
                </a:rPr>
                <a:t>2 </a:t>
              </a:r>
              <a:r>
                <a:rPr b="1" lang="en-US" sz="4000" spc="-1" strike="noStrike">
                  <a:solidFill>
                    <a:srgbClr val="ff0000"/>
                  </a:solidFill>
                  <a:latin typeface="Arial"/>
                </a:rPr>
                <a:t>/ c</a:t>
              </a:r>
              <a:r>
                <a:rPr b="1" lang="en-US" sz="4000" spc="-1" strike="noStrike" baseline="30000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1836720" y="1987560"/>
              <a:ext cx="2519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73800" y="1170000"/>
              <a:ext cx="462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849960" y="1432080"/>
              <a:ext cx="1005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</a:t>
              </a:r>
              <a:r>
                <a:rPr b="1" lang="en-US" sz="40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1" lang="en-US" sz="4000" spc="-1" strike="noStrike">
                  <a:solidFill>
                    <a:srgbClr val="ff0000"/>
                  </a:solidFill>
                  <a:latin typeface="Arial"/>
                </a:rPr>
                <a:t>=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0" name=""/>
          <p:cNvSpPr/>
          <p:nvPr/>
        </p:nvSpPr>
        <p:spPr>
          <a:xfrm>
            <a:off x="5003640" y="1700280"/>
            <a:ext cx="325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elativistic fa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31120" y="201600"/>
            <a:ext cx="676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80"/>
                </a:solidFill>
                <a:latin typeface="Arial"/>
              </a:rPr>
              <a:t>Previously in a Physics lesson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700360" y="4005360"/>
            <a:ext cx="6083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s is the factor by which time is dilated due to viewing perspecti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" descr=""/>
          <p:cNvPicPr/>
          <p:nvPr/>
        </p:nvPicPr>
        <p:blipFill>
          <a:blip r:embed="rId1"/>
          <a:stretch/>
        </p:blipFill>
        <p:spPr>
          <a:xfrm>
            <a:off x="324000" y="4076640"/>
            <a:ext cx="2374920" cy="2017800"/>
          </a:xfrm>
          <a:prstGeom prst="rect">
            <a:avLst/>
          </a:prstGeom>
          <a:ln w="0">
            <a:noFill/>
          </a:ln>
        </p:spPr>
      </p:pic>
      <p:sp>
        <p:nvSpPr>
          <p:cNvPr id="314" name=""/>
          <p:cNvSpPr/>
          <p:nvPr/>
        </p:nvSpPr>
        <p:spPr>
          <a:xfrm>
            <a:off x="1476360" y="5229360"/>
            <a:ext cx="431640" cy="28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5" name=""/>
          <p:cNvGraphicFramePr/>
          <p:nvPr/>
        </p:nvGraphicFramePr>
        <p:xfrm>
          <a:off x="457200" y="404640"/>
          <a:ext cx="8229600" cy="5904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04640"/>
                    <a:ext cx="8229600" cy="590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7" name=""/>
          <p:cNvSpPr/>
          <p:nvPr/>
        </p:nvSpPr>
        <p:spPr>
          <a:xfrm>
            <a:off x="4358520" y="6021360"/>
            <a:ext cx="101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v / 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-2687400" y="3026520"/>
            <a:ext cx="583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istic &amp; non-relativistic Doppler shif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441760" y="4508640"/>
            <a:ext cx="332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Arial"/>
              </a:rPr>
              <a:t>Non-relativistic Dopp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5298480" y="907920"/>
            <a:ext cx="278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Relativistic Dopp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763640" y="0"/>
            <a:ext cx="590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Differences in relativistic &amp; non-relativistic doppler shift calcul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5735880" y="1247760"/>
            <a:ext cx="189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Symbol"/>
                <a:ea typeface="Symbol"/>
              </a:rPr>
              <a:t>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(1 + v/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227640" y="4797360"/>
            <a:ext cx="16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99"/>
                </a:solidFill>
                <a:latin typeface="Arial"/>
              </a:rPr>
              <a:t>(1 + v/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4" name=""/>
          <p:cNvGrpSpPr/>
          <p:nvPr/>
        </p:nvGrpSpPr>
        <p:grpSpPr>
          <a:xfrm>
            <a:off x="901800" y="2997360"/>
            <a:ext cx="5444640" cy="1584000"/>
            <a:chOff x="901800" y="2997360"/>
            <a:chExt cx="5444640" cy="1584000"/>
          </a:xfrm>
        </p:grpSpPr>
        <p:sp>
          <p:nvSpPr>
            <p:cNvPr id="325" name=""/>
            <p:cNvSpPr/>
            <p:nvPr/>
          </p:nvSpPr>
          <p:spPr>
            <a:xfrm>
              <a:off x="901800" y="2997360"/>
              <a:ext cx="5444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OK approximation until ~ v = 0.3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2771640" y="3500280"/>
              <a:ext cx="216000" cy="10810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376560" y="274680"/>
            <a:ext cx="267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minders: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612720" y="1341360"/>
            <a:ext cx="603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GB" sz="3600" spc="-1" strike="noStrike">
                <a:solidFill>
                  <a:srgbClr val="0000ff"/>
                </a:solidFill>
                <a:latin typeface="Arial"/>
              </a:rPr>
              <a:t>Light travels at c for all F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611280" y="4437000"/>
            <a:ext cx="8353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Someone else’s wristwatch wil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Arial"/>
              </a:rPr>
              <a:t>appear to you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, to tick slower if they are moving relative to yo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628200" y="1844640"/>
            <a:ext cx="274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(2</a:t>
            </a:r>
            <a:r>
              <a:rPr b="0" lang="en-US" sz="3200" spc="-1" strike="noStrike" baseline="30000">
                <a:solidFill>
                  <a:srgbClr val="0000ff"/>
                </a:solidFill>
                <a:latin typeface="Arial"/>
              </a:rPr>
              <a:t>nd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Postulat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11280" y="2781360"/>
            <a:ext cx="774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Arial"/>
              </a:rPr>
              <a:t> “</a:t>
            </a:r>
            <a:r>
              <a:rPr b="0" lang="en-US" sz="3600" spc="-1" strike="noStrike">
                <a:solidFill>
                  <a:srgbClr val="008000"/>
                </a:solidFill>
                <a:latin typeface="Arial"/>
              </a:rPr>
              <a:t>Wristwatch” time is consistent for everyo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692360" y="1125360"/>
            <a:ext cx="5856120" cy="489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55520" y="1052640"/>
            <a:ext cx="8988480" cy="523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55520" y="46080"/>
            <a:ext cx="8088480" cy="620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468360" y="932040"/>
            <a:ext cx="3487680" cy="261756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4858920" y="2057400"/>
            <a:ext cx="282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Light clo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-36360" y="3137040"/>
            <a:ext cx="93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(a tick is the sending and receiving of a light puls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250920" y="2781360"/>
            <a:ext cx="2286000" cy="171432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2627280" y="2421000"/>
            <a:ext cx="0" cy="143964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195640" y="2637000"/>
            <a:ext cx="1439640" cy="194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3132000" y="-459000"/>
            <a:ext cx="0" cy="143964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rot="10800000">
            <a:off x="2195280" y="-1108080"/>
            <a:ext cx="1439640" cy="19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10800000">
            <a:off x="1979280" y="643680"/>
            <a:ext cx="1865160" cy="360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422440" y="595440"/>
            <a:ext cx="97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rot="10800000">
            <a:off x="1979280" y="2396880"/>
            <a:ext cx="1865160" cy="360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422440" y="2347920"/>
            <a:ext cx="97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211640" y="2911320"/>
            <a:ext cx="39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ight travels = 2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3708360" y="981000"/>
            <a:ext cx="579600" cy="1440000"/>
            <a:chOff x="3708360" y="981000"/>
            <a:chExt cx="579600" cy="1440000"/>
          </a:xfrm>
        </p:grpSpPr>
        <p:sp>
          <p:nvSpPr>
            <p:cNvPr id="165" name=""/>
            <p:cNvSpPr/>
            <p:nvPr/>
          </p:nvSpPr>
          <p:spPr>
            <a:xfrm>
              <a:off x="3708360" y="981000"/>
              <a:ext cx="0" cy="144000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852720" y="1395360"/>
              <a:ext cx="4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ff"/>
                  </a:solidFill>
                  <a:latin typeface="Arial"/>
                </a:rPr>
                <a:t>d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4371480" y="4365720"/>
            <a:ext cx="343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ime taken = 2</a:t>
            </a: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021200" y="3645000"/>
            <a:ext cx="357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gnal speed = 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333800" y="5840280"/>
            <a:ext cx="2643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2d = c x 2</a:t>
            </a:r>
            <a:r>
              <a:rPr b="0" lang="en-US" sz="4400" spc="-1" strike="noStrike">
                <a:solidFill>
                  <a:srgbClr val="ff0000"/>
                </a:solidFill>
                <a:latin typeface="Symbol"/>
                <a:ea typeface="Symbol"/>
              </a:rPr>
              <a:t>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022840" y="5229360"/>
            <a:ext cx="499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distance = speed x ti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148360" y="692280"/>
            <a:ext cx="3960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99"/>
                </a:solidFill>
                <a:latin typeface="Arial"/>
              </a:rPr>
              <a:t>Wristwatch time of mirror &amp; also snail as no relative mo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076720" y="1268280"/>
            <a:ext cx="395280" cy="360360"/>
          </a:xfrm>
          <a:prstGeom prst="line">
            <a:avLst/>
          </a:prstGeom>
          <a:ln w="7632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051960" y="5842080"/>
            <a:ext cx="1541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d = c</a:t>
            </a:r>
            <a:r>
              <a:rPr b="0" lang="en-US" sz="4400" spc="-1" strike="noStrike">
                <a:solidFill>
                  <a:srgbClr val="ff0000"/>
                </a:solidFill>
                <a:latin typeface="Symbol"/>
                <a:ea typeface="Symbol"/>
              </a:rPr>
              <a:t>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-1800" y="49320"/>
            <a:ext cx="614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Mirrors stationary relative to sn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213440" y="1359000"/>
            <a:ext cx="1024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= c</a:t>
            </a:r>
            <a:r>
              <a:rPr b="0" lang="en-US" sz="4000" spc="-1" strike="noStrike">
                <a:solidFill>
                  <a:srgbClr val="0000ff"/>
                </a:solidFill>
                <a:latin typeface="Symbol"/>
                <a:ea typeface="Symbol"/>
              </a:rPr>
              <a:t>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4104E-006 L 2.5E-006 -0.20971 E">
                                      <p:cBhvr>
                                        <p:cTn id="6" dur="1000" fill="hold"/>
                                        <p:tgtEl>
                                          <p:spTgt spid="1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1000"/>
                            </p:stCondLst>
                            <p:childTnLst>
                              <p:par>
                                <p:cTn id="8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-4.62428E-006 L 4.16667E-006 0.20972 E">
                                      <p:cBhvr>
                                        <p:cTn id="9" dur="1000" fill="hold"/>
                                        <p:tgtEl>
                                          <p:spTgt spid="1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 flipV="1">
            <a:off x="2627280" y="993240"/>
            <a:ext cx="1728720" cy="14274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4356000" y="991800"/>
            <a:ext cx="1656000" cy="136692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340000" y="981000"/>
            <a:ext cx="374472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250920" y="2871720"/>
            <a:ext cx="2286000" cy="171468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2627280" y="2421000"/>
            <a:ext cx="0" cy="143964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195640" y="2637000"/>
            <a:ext cx="1439640" cy="194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4356000" y="-459000"/>
            <a:ext cx="0" cy="143964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rot="10800000">
            <a:off x="2195640" y="-1107720"/>
            <a:ext cx="4032000" cy="208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1692000" y="595440"/>
            <a:ext cx="1865160" cy="459720"/>
            <a:chOff x="1692000" y="595440"/>
            <a:chExt cx="1865160" cy="459720"/>
          </a:xfrm>
        </p:grpSpPr>
        <p:sp>
          <p:nvSpPr>
            <p:cNvPr id="185" name=""/>
            <p:cNvSpPr/>
            <p:nvPr/>
          </p:nvSpPr>
          <p:spPr>
            <a:xfrm rot="10800000">
              <a:off x="1692000" y="643680"/>
              <a:ext cx="1865160" cy="360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135160" y="595440"/>
              <a:ext cx="977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irro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" name=""/>
          <p:cNvGrpSpPr/>
          <p:nvPr/>
        </p:nvGrpSpPr>
        <p:grpSpPr>
          <a:xfrm>
            <a:off x="1692000" y="2347920"/>
            <a:ext cx="1865160" cy="459720"/>
            <a:chOff x="1692000" y="2347920"/>
            <a:chExt cx="1865160" cy="459720"/>
          </a:xfrm>
        </p:grpSpPr>
        <p:sp>
          <p:nvSpPr>
            <p:cNvPr id="188" name=""/>
            <p:cNvSpPr/>
            <p:nvPr/>
          </p:nvSpPr>
          <p:spPr>
            <a:xfrm rot="10800000">
              <a:off x="1692000" y="2396880"/>
              <a:ext cx="1865160" cy="360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135160" y="2347920"/>
              <a:ext cx="977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irro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7586640" y="526572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2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631280" y="5842080"/>
            <a:ext cx="55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8000"/>
                </a:solidFill>
                <a:latin typeface="Symbol"/>
                <a:ea typeface="Symbol"/>
              </a:rPr>
              <a:t>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503240" y="4653000"/>
            <a:ext cx="223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gnal sp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7215840" y="4149720"/>
            <a:ext cx="1387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8000"/>
                </a:solidFill>
                <a:latin typeface="Arial"/>
              </a:rPr>
              <a:t>FoR</a:t>
            </a:r>
            <a:r>
              <a:rPr b="0" lang="en-GB" sz="2800" spc="-1" strike="noStrike" baseline="-25000">
                <a:solidFill>
                  <a:srgbClr val="008000"/>
                </a:solidFill>
                <a:latin typeface="Arial"/>
              </a:rPr>
              <a:t>mi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494440" y="4149720"/>
            <a:ext cx="1275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FoR</a:t>
            </a:r>
            <a:r>
              <a:rPr b="0" lang="en-GB" sz="2800" spc="-1" strike="noStrike" baseline="-25000">
                <a:solidFill>
                  <a:srgbClr val="0000ff"/>
                </a:solidFill>
                <a:latin typeface="Arial"/>
              </a:rPr>
              <a:t>sna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731000" y="4653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195640" y="5264280"/>
            <a:ext cx="18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√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(d</a:t>
            </a:r>
            <a:r>
              <a:rPr b="0" lang="en-US" sz="2800" spc="-1" strike="noStrike" baseline="30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+ x</a:t>
            </a:r>
            <a:r>
              <a:rPr b="0" lang="en-US" sz="2800" spc="-1" strike="noStrike" baseline="30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645800" y="5872320"/>
            <a:ext cx="194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me ta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871720" y="5842080"/>
            <a:ext cx="51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2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939400" y="46227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573080" y="5264280"/>
            <a:ext cx="210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ght trav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4314960" y="981000"/>
            <a:ext cx="579600" cy="1440000"/>
            <a:chOff x="4314960" y="981000"/>
            <a:chExt cx="579600" cy="1440000"/>
          </a:xfrm>
        </p:grpSpPr>
        <p:sp>
          <p:nvSpPr>
            <p:cNvPr id="202" name=""/>
            <p:cNvSpPr/>
            <p:nvPr/>
          </p:nvSpPr>
          <p:spPr>
            <a:xfrm>
              <a:off x="4314960" y="981000"/>
              <a:ext cx="0" cy="14400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459320" y="1395360"/>
              <a:ext cx="4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2627280" y="1773360"/>
            <a:ext cx="1728720" cy="642600"/>
            <a:chOff x="2627280" y="1773360"/>
            <a:chExt cx="1728720" cy="642600"/>
          </a:xfrm>
        </p:grpSpPr>
        <p:sp>
          <p:nvSpPr>
            <p:cNvPr id="205" name=""/>
            <p:cNvSpPr/>
            <p:nvPr/>
          </p:nvSpPr>
          <p:spPr>
            <a:xfrm>
              <a:off x="2627280" y="2349360"/>
              <a:ext cx="1728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297240" y="177336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2700360" y="5300640"/>
            <a:ext cx="122400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5013360"/>
            <a:ext cx="218124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nger distance, so takes lon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&gt;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332000" y="5300640"/>
            <a:ext cx="863640" cy="73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-1800" y="49320"/>
            <a:ext cx="614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Mirrors travel at v relative to sn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8.67052E-007 L 0.39392 8.67052E-007 E">
                                      <p:cBhvr>
                                        <p:cTn id="53" dur="3700" fill="hold"/>
                                        <p:tgtEl>
                                          <p:spTgt spid="1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4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1.44509E-006 L 0.25208 -1.44509E-006 E">
                                      <p:cBhvr>
                                        <p:cTn id="55" dur="3700" fill="hold"/>
                                        <p:tgtEl>
                                          <p:spTgt spid="1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6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1.38778E-017 L 0.41771 1.38778E-017 E">
                                      <p:cBhvr>
                                        <p:cTn id="57" dur="3700" fill="hold"/>
                                        <p:tgtEl>
                                          <p:spTgt spid="1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8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1.15607E-007 L 0.41771 -1.15607E-007 E">
                                      <p:cBhvr>
                                        <p:cTn id="59" dur="3700" fill="hold"/>
                                        <p:tgtEl>
                                          <p:spTgt spid="1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-1.04046E-006 L 0.18906 -0.20971 E">
                                      <p:cBhvr>
                                        <p:cTn id="61" dur="1800" fill="hold"/>
                                        <p:tgtEl>
                                          <p:spTgt spid="1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2" nodeType="withEffect" fill="hold" presetClass="exit" presetID="1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path" presetID="64">
                                  <p:stCondLst>
                                    <p:cond delay="1800"/>
                                  </p:stCondLst>
                                  <p:childTnLst>
                                    <p:animMotion origin="layout" path="M -3.61111E-006 2.77457E-006 L 0.18125 0.20347 E">
                                      <p:cBhvr>
                                        <p:cTn id="65" dur="1700" fill="hold"/>
                                        <p:tgtEl>
                                          <p:spTgt spid="1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6" nodeType="withEffect" fill="hold" presetClass="exit" presetID="1">
                                  <p:stCondLst>
                                    <p:cond delay="36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58 -5.78035E-008 L 0.42535 -5.78035E-008 E">
                                      <p:cBhvr>
                                        <p:cTn id="69" dur="3700" fill="hold"/>
                                        <p:tgtEl>
                                          <p:spTgt spid="1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1" name=""/>
          <p:cNvGrpSpPr/>
          <p:nvPr/>
        </p:nvGrpSpPr>
        <p:grpSpPr>
          <a:xfrm>
            <a:off x="2558880" y="560160"/>
            <a:ext cx="4403160" cy="1860480"/>
            <a:chOff x="2558880" y="560160"/>
            <a:chExt cx="4403160" cy="1860480"/>
          </a:xfrm>
        </p:grpSpPr>
        <p:sp>
          <p:nvSpPr>
            <p:cNvPr id="212" name=""/>
            <p:cNvSpPr/>
            <p:nvPr/>
          </p:nvSpPr>
          <p:spPr>
            <a:xfrm flipV="1">
              <a:off x="2558880" y="562320"/>
              <a:ext cx="2248920" cy="185832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 flipH="1" flipV="1">
              <a:off x="4807800" y="560160"/>
              <a:ext cx="2154240" cy="177948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" name=""/>
          <p:cNvSpPr/>
          <p:nvPr/>
        </p:nvSpPr>
        <p:spPr>
          <a:xfrm rot="10800000">
            <a:off x="2171880" y="263160"/>
            <a:ext cx="930240" cy="309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149560" y="189000"/>
            <a:ext cx="97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791240" y="623880"/>
            <a:ext cx="0" cy="1674720"/>
          </a:xfrm>
          <a:prstGeom prst="line">
            <a:avLst/>
          </a:prstGeom>
          <a:ln w="7632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789440" y="1258920"/>
            <a:ext cx="63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Arial"/>
              </a:rPr>
              <a:t>c</a:t>
            </a:r>
            <a:r>
              <a:rPr b="0" lang="en-US" sz="4000" spc="-1" strike="noStrike">
                <a:solidFill>
                  <a:srgbClr val="008000"/>
                </a:solidFill>
                <a:latin typeface="Symbol"/>
                <a:ea typeface="Symbol"/>
              </a:rPr>
              <a:t>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622600" y="2298600"/>
            <a:ext cx="2232000" cy="0"/>
          </a:xfrm>
          <a:prstGeom prst="line">
            <a:avLst/>
          </a:prstGeom>
          <a:ln w="7632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553200" y="1708200"/>
            <a:ext cx="53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ff"/>
                </a:solidFill>
                <a:latin typeface="Arial"/>
              </a:rPr>
              <a:t>v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rot="10800000">
            <a:off x="4311720" y="263160"/>
            <a:ext cx="930240" cy="309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289400" y="189000"/>
            <a:ext cx="97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rot="10800000">
            <a:off x="6451560" y="263160"/>
            <a:ext cx="930240" cy="309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429240" y="189000"/>
            <a:ext cx="97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0800000">
            <a:off x="2170080" y="2435040"/>
            <a:ext cx="930240" cy="3092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147760" y="2360520"/>
            <a:ext cx="97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rot="10800000">
            <a:off x="4309920" y="2435040"/>
            <a:ext cx="930240" cy="3092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287600" y="2360520"/>
            <a:ext cx="97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rot="10800000">
            <a:off x="6450120" y="2435040"/>
            <a:ext cx="930240" cy="3092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427800" y="2360520"/>
            <a:ext cx="97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181680" y="995400"/>
            <a:ext cx="53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31280" y="3238560"/>
            <a:ext cx="3739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(ct)</a:t>
            </a:r>
            <a:r>
              <a:rPr b="0" lang="en-US" sz="36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 = (c</a:t>
            </a:r>
            <a:r>
              <a:rPr b="0" lang="en-US" sz="4000" spc="-1" strike="noStrike">
                <a:solidFill>
                  <a:srgbClr val="ff0000"/>
                </a:solidFill>
                <a:latin typeface="Symbol"/>
                <a:ea typeface="Symbol"/>
              </a:rPr>
              <a:t>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0" lang="en-US" sz="36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 + (vt)</a:t>
            </a:r>
            <a:r>
              <a:rPr b="0" lang="en-US" sz="36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82160" y="2852640"/>
            <a:ext cx="172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Pythagor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868680" y="4156200"/>
            <a:ext cx="2503800" cy="1291680"/>
            <a:chOff x="868680" y="4156200"/>
            <a:chExt cx="2503800" cy="1291680"/>
          </a:xfrm>
        </p:grpSpPr>
        <p:sp>
          <p:nvSpPr>
            <p:cNvPr id="234" name=""/>
            <p:cNvSpPr/>
            <p:nvPr/>
          </p:nvSpPr>
          <p:spPr>
            <a:xfrm>
              <a:off x="868680" y="4156200"/>
              <a:ext cx="2503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</a:t>
              </a:r>
              <a:r>
                <a:rPr b="0" lang="en-US" sz="3600" spc="-1" strike="noStrike" baseline="30000">
                  <a:solidFill>
                    <a:srgbClr val="ff0000"/>
                  </a:solidFill>
                  <a:latin typeface="Arial"/>
                </a:rPr>
                <a:t>2</a:t>
              </a:r>
              <a:r>
                <a:rPr b="0" lang="en-US" sz="3600" spc="-1" strike="noStrike">
                  <a:solidFill>
                    <a:srgbClr val="ff0000"/>
                  </a:solidFill>
                  <a:latin typeface="Arial"/>
                </a:rPr>
                <a:t> = t</a:t>
              </a:r>
              <a:r>
                <a:rPr b="0" lang="en-US" sz="3600" spc="-1" strike="noStrike" baseline="30000">
                  <a:solidFill>
                    <a:srgbClr val="ff0000"/>
                  </a:solidFill>
                  <a:latin typeface="Arial"/>
                </a:rPr>
                <a:t>2</a:t>
              </a:r>
              <a:r>
                <a:rPr b="0" lang="en-US" sz="3600" spc="-1" strike="noStrike">
                  <a:solidFill>
                    <a:srgbClr val="ff0000"/>
                  </a:solidFill>
                  <a:latin typeface="Arial"/>
                </a:rPr>
                <a:t> – v</a:t>
              </a:r>
              <a:r>
                <a:rPr b="0" lang="en-US" sz="3600" spc="-1" strike="noStrike" baseline="30000">
                  <a:solidFill>
                    <a:srgbClr val="ff0000"/>
                  </a:solidFill>
                  <a:latin typeface="Arial"/>
                </a:rPr>
                <a:t>2</a:t>
              </a:r>
              <a:r>
                <a:rPr b="0" lang="en-US" sz="3600" spc="-1" strike="noStrike">
                  <a:solidFill>
                    <a:srgbClr val="ff0000"/>
                  </a:solidFill>
                  <a:latin typeface="Arial"/>
                </a:rPr>
                <a:t>t</a:t>
              </a:r>
              <a:r>
                <a:rPr b="0" lang="en-US" sz="3600" spc="-1" strike="noStrike" baseline="30000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635200" y="4805280"/>
              <a:ext cx="557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0000"/>
                  </a:solidFill>
                  <a:latin typeface="Arial"/>
                </a:rPr>
                <a:t>c</a:t>
              </a:r>
              <a:r>
                <a:rPr b="0" lang="en-US" sz="3600" spc="-1" strike="noStrike" baseline="30000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622600" y="4805280"/>
              <a:ext cx="576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801720" y="5380200"/>
            <a:ext cx="2936520" cy="1218960"/>
            <a:chOff x="801720" y="5380200"/>
            <a:chExt cx="2936520" cy="1218960"/>
          </a:xfrm>
        </p:grpSpPr>
        <p:sp>
          <p:nvSpPr>
            <p:cNvPr id="238" name=""/>
            <p:cNvSpPr/>
            <p:nvPr/>
          </p:nvSpPr>
          <p:spPr>
            <a:xfrm>
              <a:off x="801720" y="5380200"/>
              <a:ext cx="29365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</a:t>
              </a:r>
              <a:r>
                <a:rPr b="0" lang="en-US" sz="3600" spc="-1" strike="noStrike" baseline="30000">
                  <a:solidFill>
                    <a:srgbClr val="ff0000"/>
                  </a:solidFill>
                  <a:latin typeface="Arial"/>
                </a:rPr>
                <a:t>2</a:t>
              </a:r>
              <a:r>
                <a:rPr b="0" lang="en-US" sz="3600" spc="-1" strike="noStrike">
                  <a:solidFill>
                    <a:srgbClr val="ff0000"/>
                  </a:solidFill>
                  <a:latin typeface="Arial"/>
                </a:rPr>
                <a:t> = 1 –  v</a:t>
              </a:r>
              <a:r>
                <a:rPr b="0" lang="en-US" sz="3600" spc="-1" strike="noStrike" baseline="30000">
                  <a:solidFill>
                    <a:srgbClr val="ff0000"/>
                  </a:solidFill>
                  <a:latin typeface="Arial"/>
                </a:rPr>
                <a:t>2 </a:t>
              </a:r>
              <a:r>
                <a:rPr b="0" lang="en-US" sz="3600" spc="-1" strike="noStrike">
                  <a:solidFill>
                    <a:srgbClr val="ff0000"/>
                  </a:solidFill>
                  <a:latin typeface="Arial"/>
                </a:rPr>
                <a:t>  t</a:t>
              </a:r>
              <a:r>
                <a:rPr b="0" lang="en-US" sz="3600" spc="-1" strike="noStrike" baseline="30000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573280" y="5956560"/>
              <a:ext cx="557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0000"/>
                  </a:solidFill>
                  <a:latin typeface="Arial"/>
                </a:rPr>
                <a:t>c</a:t>
              </a:r>
              <a:r>
                <a:rPr b="0" lang="en-US" sz="3600" spc="-1" strike="noStrike" baseline="30000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560680" y="6029640"/>
              <a:ext cx="503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697040" y="5524560"/>
              <a:ext cx="1584360" cy="1008000"/>
            </a:xfrm>
            <a:prstGeom prst="bracketPair">
              <a:avLst>
                <a:gd name="adj" fmla="val 17129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52200" y="5418000"/>
            <a:ext cx="1916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Arial"/>
              </a:rPr>
              <a:t>t = </a:t>
            </a:r>
            <a:r>
              <a:rPr b="0" lang="en-US" sz="6000" spc="-1" strike="noStrike">
                <a:solidFill>
                  <a:srgbClr val="ff0000"/>
                </a:solidFill>
                <a:latin typeface="Symbol"/>
                <a:ea typeface="Symbol"/>
              </a:rPr>
              <a:t>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219640" y="5445000"/>
            <a:ext cx="2448000" cy="1152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5437080" y="3141720"/>
            <a:ext cx="2590920" cy="2082600"/>
            <a:chOff x="5437080" y="3141720"/>
            <a:chExt cx="2590920" cy="2082600"/>
          </a:xfrm>
        </p:grpSpPr>
        <p:sp>
          <p:nvSpPr>
            <p:cNvPr id="245" name=""/>
            <p:cNvSpPr/>
            <p:nvPr/>
          </p:nvSpPr>
          <p:spPr>
            <a:xfrm>
              <a:off x="5437080" y="3195720"/>
              <a:ext cx="7156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0000"/>
                  </a:solidFill>
                  <a:latin typeface="Arial"/>
                </a:rPr>
                <a:t>t</a:t>
              </a:r>
              <a:r>
                <a:rPr b="0" lang="en-US" sz="3600" spc="-1" strike="noStrike">
                  <a:solidFill>
                    <a:srgbClr val="ff0000"/>
                  </a:solidFill>
                  <a:latin typeface="Arial"/>
                </a:rPr>
                <a:t> =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175520" y="4581720"/>
              <a:ext cx="557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0000"/>
                  </a:solidFill>
                  <a:latin typeface="Arial"/>
                </a:rPr>
                <a:t>c</a:t>
              </a:r>
              <a:r>
                <a:rPr b="0" lang="en-US" sz="3600" spc="-1" strike="noStrike" baseline="30000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162920" y="4654800"/>
              <a:ext cx="502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299280" y="4149720"/>
              <a:ext cx="1584360" cy="1008360"/>
            </a:xfrm>
            <a:prstGeom prst="bracketPair">
              <a:avLst>
                <a:gd name="adj" fmla="val 17129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311880" y="4077000"/>
              <a:ext cx="1445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0000"/>
                  </a:solidFill>
                  <a:latin typeface="Arial"/>
                </a:rPr>
                <a:t>1 –  v</a:t>
              </a:r>
              <a:r>
                <a:rPr b="0" lang="en-US" sz="3600" spc="-1" strike="noStrike" baseline="30000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805440" y="3141720"/>
              <a:ext cx="4032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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227640" y="3843360"/>
              <a:ext cx="1800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011640" y="3998880"/>
              <a:ext cx="2016360" cy="1152720"/>
            </a:xfrm>
            <a:custGeom>
              <a:avLst/>
              <a:gdLst/>
              <a:ahLst/>
              <a:rect l="l" t="t" r="r" b="b"/>
              <a:pathLst>
                <a:path w="1316" h="726">
                  <a:moveTo>
                    <a:pt x="0" y="590"/>
                  </a:moveTo>
                  <a:lnTo>
                    <a:pt x="46" y="726"/>
                  </a:lnTo>
                  <a:lnTo>
                    <a:pt x="136" y="0"/>
                  </a:lnTo>
                  <a:lnTo>
                    <a:pt x="1316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3435840" y="1414440"/>
            <a:ext cx="1916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ff"/>
                </a:solidFill>
                <a:latin typeface="Arial"/>
              </a:rPr>
              <a:t>t = </a:t>
            </a:r>
            <a:r>
              <a:rPr b="0" lang="en-US" sz="6000" spc="-1" strike="noStrike">
                <a:solidFill>
                  <a:srgbClr val="0000ff"/>
                </a:solidFill>
                <a:latin typeface="Symbol"/>
                <a:ea typeface="Symbol"/>
              </a:rPr>
              <a:t>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11280" y="2787480"/>
            <a:ext cx="7921440" cy="12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Arial"/>
              </a:rPr>
              <a:t>Snail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 views FoR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Arial"/>
              </a:rPr>
              <a:t>mirror 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clock ticking slower by factor of </a:t>
            </a:r>
            <a:r>
              <a:rPr b="0" lang="en-GB" sz="36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2195640" y="3933720"/>
            <a:ext cx="4824360" cy="266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ffbf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Time dilation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ffbf00"/>
                  </a:gs>
                </a:gsLst>
                <a:lin ang="5400000"/>
              </a:gra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56" name=""/>
          <p:cNvSpPr/>
          <p:nvPr/>
        </p:nvSpPr>
        <p:spPr>
          <a:xfrm>
            <a:off x="5651640" y="622440"/>
            <a:ext cx="3584520" cy="12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cc0099"/>
                </a:solidFill>
                <a:latin typeface="Arial"/>
              </a:rPr>
              <a:t>Wristwatch time for FoR</a:t>
            </a:r>
            <a:r>
              <a:rPr b="0" lang="en-GB" sz="3600" spc="-1" strike="noStrike" baseline="-25000">
                <a:solidFill>
                  <a:srgbClr val="cc0099"/>
                </a:solidFill>
                <a:latin typeface="Arial"/>
              </a:rPr>
              <a:t>mirr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50920" y="260280"/>
            <a:ext cx="410508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cc0099"/>
                </a:solidFill>
                <a:latin typeface="Arial"/>
              </a:rPr>
              <a:t>FoR</a:t>
            </a:r>
            <a:r>
              <a:rPr b="0" lang="en-GB" sz="3600" spc="-1" strike="noStrike" baseline="-25000">
                <a:solidFill>
                  <a:srgbClr val="cc0099"/>
                </a:solidFill>
                <a:latin typeface="Arial"/>
              </a:rPr>
              <a:t>snail</a:t>
            </a:r>
            <a:r>
              <a:rPr b="0" lang="en-GB" sz="3600" spc="-1" strike="noStrike">
                <a:solidFill>
                  <a:srgbClr val="cc0099"/>
                </a:solidFill>
                <a:latin typeface="Arial"/>
              </a:rPr>
              <a:t> view of FoR</a:t>
            </a:r>
            <a:r>
              <a:rPr b="0" lang="en-GB" sz="3600" spc="-1" strike="noStrike" baseline="-25000">
                <a:solidFill>
                  <a:srgbClr val="cc0099"/>
                </a:solidFill>
                <a:latin typeface="Arial"/>
              </a:rPr>
              <a:t>mirror </a:t>
            </a:r>
            <a:r>
              <a:rPr b="0" lang="en-GB" sz="3600" spc="-1" strike="noStrike">
                <a:solidFill>
                  <a:srgbClr val="cc0099"/>
                </a:solidFill>
                <a:latin typeface="Arial"/>
              </a:rPr>
              <a:t>wristwat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132000" y="1414440"/>
            <a:ext cx="360360" cy="287280"/>
          </a:xfrm>
          <a:prstGeom prst="line">
            <a:avLst/>
          </a:prstGeom>
          <a:ln w="7632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5219640" y="1414440"/>
            <a:ext cx="432000" cy="287280"/>
          </a:xfrm>
          <a:prstGeom prst="line">
            <a:avLst/>
          </a:prstGeom>
          <a:ln w="7632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2T11:44:53Z</dcterms:created>
  <dc:creator>Bridges</dc:creator>
  <dc:description/>
  <dc:language>en-US</dc:language>
  <cp:lastModifiedBy>PALMER</cp:lastModifiedBy>
  <dcterms:modified xsi:type="dcterms:W3CDTF">2011-07-13T08:03:37Z</dcterms:modified>
  <cp:revision>12</cp:revision>
  <dc:subject/>
  <dc:title>Slide 1</dc:title>
</cp:coreProperties>
</file>